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F0F-A5EB-4054-99DC-E16C21E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44E-7610-4A14-B5B8-3B667063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BBC-8CFE-4CAB-903B-071B314F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A77-C4CB-4235-B7A2-B3444F3E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C19-4388-4612-B9E9-39E7811F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8A68-0AAB-4F22-B60A-47A6359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2D1F-DC1C-4B8A-9C02-BDBF04C2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5CF4-4CF2-471C-A3FE-908C53D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8C40-B616-4570-A15F-065D954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545-D301-4545-97A3-93F6D2E9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CF2C-8698-468C-8839-5F4F6A6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011-0F2B-4EE3-8919-70581BD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845-B70F-4794-8090-ABDB05F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06A-9444-45ED-A4D1-C98CD14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538D-91EF-433E-8DE3-6C6C72A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267-7CFD-44E3-94B0-63F7423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4662-4B59-445A-ACEF-94460913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76B1-862B-450F-917E-CE761924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9D49-31B6-4B32-B6C5-BD5BDBBB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295D-E3E3-47A5-B6AF-2E6D759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C3B3-A4DF-49CB-9B2A-9DDF235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AF98-9E87-43C1-A9F3-C2C4689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AF9-14AB-44C6-A8AF-E57CD2D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20DD-5F6F-460E-8C79-7F5B15A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5260-ABBE-48F2-A19B-D9D8BE4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47CD-4D5C-4FB3-95A2-CEB5DA77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A0F4-1F75-434C-B8A7-B1AD97E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4362-DD0D-487E-BC9C-9B348F5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6894-332E-496F-BBEF-54359460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34A9-8C1A-4114-8D33-CA109FF3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AFE4-1F14-4E7C-88EC-733B1288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3926-72AF-4A2D-9D1C-A5978EF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4A4D-EBCB-417F-B7BA-B6E647D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F99-4B02-4F3E-882A-A245734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CC79-23C7-4DB4-83AF-EF953E11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88D2-CE7D-4067-B646-31F1E0B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A643-1601-4F1E-A5BB-D23615C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4F90-8A3E-451A-8BE8-A16AB8C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DC11-7D8E-4621-ABC6-233588D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5F09-D5E4-4508-8F6C-5FB64A31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E88A-1E6C-4C6E-918D-F61FF8A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7E1C-98DB-457F-804F-F1E12362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0F09-2B2A-4764-9797-CB3832BD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EBC0-2D2A-4270-9F6B-8981810A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58D-65D5-49E1-955F-6EC1D674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49A6-827D-4989-AD7B-05EC90F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3B51-56EE-4F53-A99E-8CAA4EBD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370B-354D-4535-A21C-D312086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5426C-D9C7-4C0C-B120-DA70943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322F-9937-4435-A4B7-FE1BBDC6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7C35-2E51-4F8A-ADC5-36045C0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40EB-81BB-4776-8508-6732FED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F69B-C5AD-4571-8251-943E046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603A-B64A-495D-B742-25ED230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C1B8-CC84-4D76-972D-43067754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A94-1A0B-42A6-9EC5-5AE3419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05CA-01B7-468C-84E3-705D73B2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D53E-D6CF-404E-BB06-4BC68696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A977-5839-4FF3-B11E-EB510068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D373-15AE-428B-9BD4-40EEAEA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951E-C8A9-47A6-9E65-D5C8B419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E497-9066-43C3-9A33-1C4F2BCF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D6AE2-CCD1-43CF-86E5-AC9A8C9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3AB1-826D-4C73-95D0-365805F2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2914-C1CF-45F4-AA90-7BB353A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1EED-381E-4718-A490-63DCCE1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3C7-0393-4747-A77A-9636DB84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DB94-316F-4EB7-85CC-A7F1969A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442B-4613-4414-988E-6C9F6EB2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AE2D-8854-4E7A-8205-267C2F73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8D1A-478C-4B97-8F8C-5989F200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D0F3-37AE-4732-ADDB-DB24220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A87A-D54C-43C8-9C91-518A806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833A-FE8B-45BE-8DE2-43F1FC92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E011-7EDA-4DE8-AE3D-57CD7033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AA8BB-3E20-4A0C-A9C6-6AB8261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2717-26D6-429B-AC58-46F701F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3C2-6741-4755-87B8-81F4D52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F3EB-9438-4B69-A160-3118366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65E9-0066-46A8-AD6A-9CCCCE4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BF27-E4D8-48E5-B189-829EA211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5D61-3999-464C-B22F-A110810E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C4219-C1DE-4DD3-AF8C-38F7995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B2D-9359-4F2E-9F6B-9D91682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82C-BF9F-46EE-BDA7-A8F0859F07C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4DF6-E41E-4E05-9F8F-F418BC51B4C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11CA-660E-4DAB-BE8B-BC9D9133E73D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BE4-DE61-4808-AD6C-7CD518BCA0C9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3C72-6F69-4354-9851-F647E63335EE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ACF-F709-455C-BC74-AD2F5EC79BF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07E-21A3-485B-8EEA-E69DF6E51040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ember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uis Aran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Joji De Jes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Justin Lucian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red Sor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3 Te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Jogo_da_velha_-_tic_tac_toe.png"/>
          <p:cNvPicPr/>
          <p:nvPr/>
        </p:nvPicPr>
        <p:blipFill>
          <a:blip r:embed="rId1"/>
          <a:stretch/>
        </p:blipFill>
        <p:spPr>
          <a:xfrm>
            <a:off x="1295280" y="0"/>
            <a:ext cx="6793200" cy="57484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828800" y="56642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ame Featu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sound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animation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AI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ic Tac To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The system will run in a windows 32-bit system such as Xp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871560" y="2674800"/>
          <a:ext cx="7408800" cy="2225880"/>
        </p:xfrm>
        <a:graphic>
          <a:graphicData uri="http://schemas.openxmlformats.org/drawingml/2006/table">
            <a:tbl>
              <a:tblPr/>
              <a:tblGrid>
                <a:gridCol w="3090960"/>
                <a:gridCol w="838080"/>
                <a:gridCol w="838080"/>
                <a:gridCol w="838440"/>
                <a:gridCol w="914400"/>
                <a:gridCol w="888840"/>
              </a:tblGrid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++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4260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&amp;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fbf8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98c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98c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260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bugging &amp; Doc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e3ae"/>
                    </a:solidFill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ic Tac To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2:51:36Z</dcterms:created>
  <dc:creator>Your User Name</dc:creator>
  <dc:description/>
  <dc:language>en-US</dc:language>
  <cp:lastModifiedBy>Jake</cp:lastModifiedBy>
  <dcterms:modified xsi:type="dcterms:W3CDTF">2011-10-28T05:53:31Z</dcterms:modified>
  <cp:revision>10</cp:revision>
  <dc:subject/>
  <dc:title>Slide 1</dc:title>
</cp:coreProperties>
</file>